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image1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1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9:10:38.437000000" idx="1">
    <p:pos x="5284" y="572"/>
    <p:text/>
  </p:cm>
</p:cmLst>
</file>

<file path=ppt/comments/comment18.xml><?xml version="1.0" encoding="utf-8"?>
<p:cmLst xmlns:p="http://schemas.openxmlformats.org/presentationml/2006/main">
  <p:cm authorId="0" dt="2016-08-19T19:10:52.513000000" idx="2">
    <p:pos x="5167" y="525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E70F-8981-42C8-AD95-0FB40E4C52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B534-0C6D-473F-B726-87B1526D20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907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小数乘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2951280" y="3297240"/>
            <a:ext cx="5797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2843280" y="25052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数点位置变化（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1187280" y="2924280"/>
            <a:ext cx="7056720" cy="13737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可以榨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的榨油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乘法计算。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的榨油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用乘法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3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5"/>
          <p:cNvSpPr/>
          <p:nvPr/>
        </p:nvSpPr>
        <p:spPr>
          <a:xfrm>
            <a:off x="1258920" y="2720880"/>
            <a:ext cx="6921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×100=5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×1000=50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可以榨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油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可以榨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F:\七彩课堂插图板式封面\排版用图标、页眉页脚\标题jpg\读读比比.jpg"/>
          <p:cNvPicPr/>
          <p:nvPr/>
        </p:nvPicPr>
        <p:blipFill>
          <a:blip r:embed="rId1"/>
          <a:srcRect l="12171" t="13499" r="0" b="0"/>
          <a:stretch/>
        </p:blipFill>
        <p:spPr>
          <a:xfrm>
            <a:off x="6372360" y="838080"/>
            <a:ext cx="2276280" cy="1568520"/>
          </a:xfrm>
          <a:prstGeom prst="rect">
            <a:avLst/>
          </a:prstGeom>
          <a:ln w="0">
            <a:noFill/>
          </a:ln>
        </p:spPr>
      </p:pic>
      <p:sp>
        <p:nvSpPr>
          <p:cNvPr id="143" name="矩形 20"/>
          <p:cNvSpPr/>
          <p:nvPr/>
        </p:nvSpPr>
        <p:spPr>
          <a:xfrm>
            <a:off x="971640" y="292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的小数点向右移动一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的数比原数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8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数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1187280" y="2924280"/>
            <a:ext cx="7056720" cy="9471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的小数点向右移动一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原数扩大到原来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比原数大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恰好就是原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5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5"/>
          <p:cNvSpPr/>
          <p:nvPr/>
        </p:nvSpPr>
        <p:spPr>
          <a:xfrm>
            <a:off x="3059280" y="325116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8÷9=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72280" y="75888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2" name="矩形 10"/>
          <p:cNvSpPr/>
          <p:nvPr/>
        </p:nvSpPr>
        <p:spPr>
          <a:xfrm>
            <a:off x="1695600" y="1800360"/>
            <a:ext cx="50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分米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"/>
          <p:cNvSpPr/>
          <p:nvPr/>
        </p:nvSpPr>
        <p:spPr>
          <a:xfrm rot="18297600">
            <a:off x="6960960" y="3363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对象 24" descr=""/>
          <p:cNvPicPr/>
          <p:nvPr/>
        </p:nvPicPr>
        <p:blipFill>
          <a:blip r:embed="rId3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449280" y="4554360"/>
            <a:ext cx="2120760" cy="1648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4"/>
          <p:cNvSpPr/>
          <p:nvPr/>
        </p:nvSpPr>
        <p:spPr>
          <a:xfrm>
            <a:off x="3890880" y="1790640"/>
            <a:ext cx="6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3780000" y="2230560"/>
            <a:ext cx="24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               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0"/>
          <p:cNvSpPr/>
          <p:nvPr/>
        </p:nvSpPr>
        <p:spPr>
          <a:xfrm>
            <a:off x="755640" y="1701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1187280" y="24861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误以为把小数点去掉就可以。产生这种错误的原因是没有掌握单位换算的方法。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单名数化成单名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单位变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进率”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4×100,5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小数点应向右移动两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0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单名数化成复名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数部分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写到相同单位前的括号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剩下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小数点向右移动三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"/>
          <p:cNvSpPr/>
          <p:nvPr/>
        </p:nvSpPr>
        <p:spPr>
          <a:xfrm>
            <a:off x="3670200" y="118116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红色字不对修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5"/>
          <p:cNvSpPr/>
          <p:nvPr/>
        </p:nvSpPr>
        <p:spPr>
          <a:xfrm rot="18297600">
            <a:off x="6097320" y="4929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20"/>
          <p:cNvSpPr/>
          <p:nvPr/>
        </p:nvSpPr>
        <p:spPr>
          <a:xfrm rot="18297600">
            <a:off x="6673680" y="2265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对象 21" descr=""/>
          <p:cNvPicPr/>
          <p:nvPr/>
        </p:nvPicPr>
        <p:blipFill>
          <a:blip r:embed="rId2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7" name="矩形 14"/>
          <p:cNvSpPr/>
          <p:nvPr/>
        </p:nvSpPr>
        <p:spPr>
          <a:xfrm>
            <a:off x="1695600" y="1800360"/>
            <a:ext cx="50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分米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3890880" y="1790640"/>
            <a:ext cx="6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8"/>
          <p:cNvSpPr/>
          <p:nvPr/>
        </p:nvSpPr>
        <p:spPr>
          <a:xfrm>
            <a:off x="3780000" y="2230560"/>
            <a:ext cx="24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               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1695600" y="3746520"/>
            <a:ext cx="50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分米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2"/>
          <p:cNvSpPr/>
          <p:nvPr/>
        </p:nvSpPr>
        <p:spPr>
          <a:xfrm>
            <a:off x="3730680" y="3736800"/>
            <a:ext cx="9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4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3780000" y="4176720"/>
            <a:ext cx="24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               5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6"/>
          <p:cNvSpPr/>
          <p:nvPr/>
        </p:nvSpPr>
        <p:spPr>
          <a:xfrm>
            <a:off x="1395360" y="186840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各圈里的数同圈上的数比较，有什么变化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1400040" y="3576600"/>
            <a:ext cx="252108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687680" y="388476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836080" y="38638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259720" y="43178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7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2120760" y="3432240"/>
            <a:ext cx="107964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6040" y="3503520"/>
            <a:ext cx="252108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5140080" y="381168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5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6292080" y="37908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715720" y="42451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.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5576760" y="3359160"/>
            <a:ext cx="107964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05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同侧圆角矩形 1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57280" y="43340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978200" y="50133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43240" y="426888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594480" y="4133880"/>
            <a:ext cx="15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500720" y="4245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5570640" y="48369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2468520" y="15638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写结果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57440" y="2205000"/>
            <a:ext cx="4067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⑴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87×10=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⑵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03×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⑶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.5×100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⑷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9×10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⑸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198×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354640" y="220500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28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978520" y="299736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780160" y="386712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2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5637240" y="465300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3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794200" y="5445000"/>
            <a:ext cx="12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9.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334800" y="4653000"/>
            <a:ext cx="2122560" cy="164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647640" y="28494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运用规律口算小数乘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77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小数点向右移动引起小数大小变化的规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84360" y="39276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把用小数表示的单名数改写成较小单位的单名数或复名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878040" y="1879560"/>
            <a:ext cx="7056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（             ）倍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（             ）倍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9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2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原数扩大了（               ）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3.2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32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原数（          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（                ）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扩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，再扩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（  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851280" y="18018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851280" y="244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521400" y="305748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508720" y="41418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922400" y="458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727280" y="563580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7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同侧圆角矩形 10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同侧圆角矩形 4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2843280" y="380520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5×10=3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1362240" y="2492280"/>
            <a:ext cx="638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笔记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这样的笔记本需要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299880" y="4653000"/>
            <a:ext cx="2122560" cy="1649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4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254240" y="1751040"/>
            <a:ext cx="556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地板砖铺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块地板砖的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家的客厅用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这样的地板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家客厅的面积是多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2468520" y="382752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36×100=3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平方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299880" y="4653000"/>
            <a:ext cx="2122560" cy="1649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51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13"/>
            <p:cNvSpPr/>
            <p:nvPr/>
          </p:nvSpPr>
          <p:spPr>
            <a:xfrm>
              <a:off x="612720" y="1771560"/>
              <a:ext cx="2519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到了哪些知识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AutoShape 27"/>
          <p:cNvSpPr/>
          <p:nvPr/>
        </p:nvSpPr>
        <p:spPr>
          <a:xfrm>
            <a:off x="6012000" y="1413000"/>
            <a:ext cx="2627280" cy="1423800"/>
          </a:xfrm>
          <a:prstGeom prst="wedgeRoundRectCallout">
            <a:avLst>
              <a:gd name="adj1" fmla="val -73111"/>
              <a:gd name="adj2" fmla="val 24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数点移动位数不够时，在右面用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补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5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矩形 21"/>
          <p:cNvSpPr/>
          <p:nvPr/>
        </p:nvSpPr>
        <p:spPr>
          <a:xfrm>
            <a:off x="612720" y="3789360"/>
            <a:ext cx="7777080" cy="1252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数点向右移动一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原来的数就扩大到原来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数点向右移动两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原来的数就扩大到原来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数点向右移动三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原来的数就扩大到原来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……这是小数点向右移动引起小数大小变化的规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3"/>
          <p:cNvSpPr/>
          <p:nvPr/>
        </p:nvSpPr>
        <p:spPr>
          <a:xfrm>
            <a:off x="612720" y="5516640"/>
            <a:ext cx="7777080" cy="459720"/>
          </a:xfrm>
          <a:prstGeom prst="rect">
            <a:avLst/>
          </a:prstGeom>
          <a:solidFill>
            <a:srgbClr val="00b0f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高级单位的数化低级单位的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高级单位前面的数乘进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89200" y="2333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71640" y="1325520"/>
            <a:ext cx="7238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填空。 </a:t>
            </a:r>
            <a:r>
              <a:rPr b="1" i="1" lang="zh-CN" sz="3200" spc="-1" strike="noStrike">
                <a:solidFill>
                  <a:srgbClr val="3333ff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幼圆"/>
                <a:ea typeface="幼圆"/>
              </a:rPr>
              <a:t> 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）分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   ）毫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0.007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）毫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扩大到原数的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倍得（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600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缩小到原数的十分之一是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17320" y="18003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117960" y="27907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680280" y="37814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811120" y="477216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03280" y="57625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同侧圆角矩形 8"/>
          <p:cNvSpPr/>
          <p:nvPr/>
        </p:nvSpPr>
        <p:spPr>
          <a:xfrm>
            <a:off x="452520" y="80820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484200" y="14508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332000" y="1641600"/>
            <a:ext cx="693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较大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0.540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0.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2.8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2.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3.26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3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6.19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61.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9920" y="2492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292640" y="3303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575240" y="4149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531320" y="4978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同侧圆角矩形 6"/>
          <p:cNvSpPr/>
          <p:nvPr/>
        </p:nvSpPr>
        <p:spPr>
          <a:xfrm>
            <a:off x="442800" y="846000"/>
            <a:ext cx="200052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线连接符 21"/>
          <p:cNvSpPr/>
          <p:nvPr/>
        </p:nvSpPr>
        <p:spPr>
          <a:xfrm flipV="1">
            <a:off x="474840" y="1488960"/>
            <a:ext cx="207144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84360" y="170028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纽扣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C:\Users\Administrator\AppData\Roaming\Tencent\Users\781547643\QQ\WinTemp\RichOle\_9J8C[@}C{EZ1Z4PI{ZE9~K.png"/>
          <p:cNvPicPr/>
          <p:nvPr/>
        </p:nvPicPr>
        <p:blipFill>
          <a:blip r:embed="rId1"/>
          <a:stretch/>
        </p:blipFill>
        <p:spPr>
          <a:xfrm>
            <a:off x="1797120" y="2654280"/>
            <a:ext cx="4643280" cy="2152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1"/>
          <p:cNvGrpSpPr/>
          <p:nvPr/>
        </p:nvGrpSpPr>
        <p:grpSpPr>
          <a:xfrm>
            <a:off x="3276720" y="765000"/>
            <a:ext cx="5110920" cy="1579680"/>
            <a:chOff x="3276720" y="765000"/>
            <a:chExt cx="5110920" cy="1579680"/>
          </a:xfrm>
        </p:grpSpPr>
        <p:pic>
          <p:nvPicPr>
            <p:cNvPr id="78" name="Picture 3" descr="F:\七彩课堂插图板式封面\排版用图标、页眉页脚\标题图（终-排版用）共29个\预习指导.jpg"/>
            <p:cNvPicPr/>
            <p:nvPr/>
          </p:nvPicPr>
          <p:blipFill>
            <a:blip r:embed="rId2"/>
            <a:srcRect l="0" t="0" r="31433" b="0"/>
            <a:stretch/>
          </p:blipFill>
          <p:spPr>
            <a:xfrm flipH="1">
              <a:off x="6660000" y="765000"/>
              <a:ext cx="172764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圆角矩形标注 7"/>
            <p:cNvSpPr/>
            <p:nvPr/>
          </p:nvSpPr>
          <p:spPr>
            <a:xfrm>
              <a:off x="3276720" y="981000"/>
              <a:ext cx="2951640" cy="642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算式表示出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矩形 9"/>
          <p:cNvSpPr/>
          <p:nvPr/>
        </p:nvSpPr>
        <p:spPr>
          <a:xfrm>
            <a:off x="1554120" y="482616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=0.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1554120" y="534996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0=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1519200" y="587376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00=5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6"/>
          <p:cNvGrpSpPr/>
          <p:nvPr/>
        </p:nvGrpSpPr>
        <p:grpSpPr>
          <a:xfrm>
            <a:off x="4932360" y="3597120"/>
            <a:ext cx="4359240" cy="1830600"/>
            <a:chOff x="4932360" y="3597120"/>
            <a:chExt cx="4359240" cy="1830600"/>
          </a:xfrm>
        </p:grpSpPr>
        <p:pic>
          <p:nvPicPr>
            <p:cNvPr id="87" name="Picture 100" descr="81"/>
            <p:cNvPicPr/>
            <p:nvPr/>
          </p:nvPicPr>
          <p:blipFill>
            <a:blip r:embed="rId1"/>
            <a:stretch/>
          </p:blipFill>
          <p:spPr>
            <a:xfrm>
              <a:off x="8028360" y="3628080"/>
              <a:ext cx="126324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27"/>
            <p:cNvSpPr/>
            <p:nvPr/>
          </p:nvSpPr>
          <p:spPr>
            <a:xfrm>
              <a:off x="4932360" y="3597120"/>
              <a:ext cx="3096000" cy="158184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  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×100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把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扩大到原来的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倍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小数点就向右移动两位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组合 5"/>
          <p:cNvGrpSpPr/>
          <p:nvPr/>
        </p:nvGrpSpPr>
        <p:grpSpPr>
          <a:xfrm>
            <a:off x="-74520" y="3371760"/>
            <a:ext cx="4841640" cy="1965240"/>
            <a:chOff x="-74520" y="3371760"/>
            <a:chExt cx="4841640" cy="1965240"/>
          </a:xfrm>
        </p:grpSpPr>
        <p:pic>
          <p:nvPicPr>
            <p:cNvPr id="90" name="Picture 69" descr="80"/>
            <p:cNvPicPr/>
            <p:nvPr/>
          </p:nvPicPr>
          <p:blipFill>
            <a:blip r:embed="rId2"/>
            <a:stretch/>
          </p:blipFill>
          <p:spPr>
            <a:xfrm>
              <a:off x="-74520" y="353664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7"/>
            <p:cNvSpPr/>
            <p:nvPr/>
          </p:nvSpPr>
          <p:spPr>
            <a:xfrm>
              <a:off x="1467360" y="3371760"/>
              <a:ext cx="3299760" cy="1230840"/>
            </a:xfrm>
            <a:prstGeom prst="wedgeRoundRectCallout">
              <a:avLst>
                <a:gd name="adj1" fmla="val -61893"/>
                <a:gd name="adj2" fmla="val -16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×10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把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扩大到原来的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倍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小数点就向右移动一位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组合 7"/>
          <p:cNvGrpSpPr/>
          <p:nvPr/>
        </p:nvGrpSpPr>
        <p:grpSpPr>
          <a:xfrm>
            <a:off x="693720" y="5156280"/>
            <a:ext cx="4741920" cy="1801800"/>
            <a:chOff x="693720" y="5156280"/>
            <a:chExt cx="4741920" cy="1801800"/>
          </a:xfrm>
        </p:grpSpPr>
        <p:sp>
          <p:nvSpPr>
            <p:cNvPr id="93" name="AutoShape 27"/>
            <p:cNvSpPr/>
            <p:nvPr/>
          </p:nvSpPr>
          <p:spPr>
            <a:xfrm>
              <a:off x="2163960" y="5336640"/>
              <a:ext cx="3271680" cy="972000"/>
            </a:xfrm>
            <a:prstGeom prst="wedgeRoundRectCallout">
              <a:avLst>
                <a:gd name="adj1" fmla="val -63398"/>
                <a:gd name="adj2" fmla="val -9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×1000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小数点就向右移动三位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43" descr="82"/>
            <p:cNvPicPr/>
            <p:nvPr/>
          </p:nvPicPr>
          <p:blipFill>
            <a:blip r:embed="rId3"/>
            <a:stretch/>
          </p:blipFill>
          <p:spPr>
            <a:xfrm>
              <a:off x="693720" y="5156280"/>
              <a:ext cx="1414440" cy="18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2"/>
          <p:cNvGrpSpPr/>
          <p:nvPr/>
        </p:nvGrpSpPr>
        <p:grpSpPr>
          <a:xfrm>
            <a:off x="3176640" y="836640"/>
            <a:ext cx="5140080" cy="1579680"/>
            <a:chOff x="3176640" y="836640"/>
            <a:chExt cx="5140080" cy="1579680"/>
          </a:xfrm>
        </p:grpSpPr>
        <p:pic>
          <p:nvPicPr>
            <p:cNvPr id="96" name="Picture 3" descr="F:\七彩课堂插图板式封面\排版用图标、页眉页脚\标题图（终-排版用）共29个\预习指导.jpg"/>
            <p:cNvPicPr/>
            <p:nvPr/>
          </p:nvPicPr>
          <p:blipFill>
            <a:blip r:embed="rId4"/>
            <a:srcRect l="0" t="0" r="31433" b="0"/>
            <a:stretch/>
          </p:blipFill>
          <p:spPr>
            <a:xfrm flipH="1">
              <a:off x="6588360" y="836640"/>
              <a:ext cx="1728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圆角矩形标注 25"/>
            <p:cNvSpPr/>
            <p:nvPr/>
          </p:nvSpPr>
          <p:spPr>
            <a:xfrm>
              <a:off x="3176640" y="980640"/>
              <a:ext cx="3051720" cy="516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发现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14"/>
          <p:cNvSpPr/>
          <p:nvPr/>
        </p:nvSpPr>
        <p:spPr>
          <a:xfrm>
            <a:off x="1103400" y="163656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=0.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1103400" y="216072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0=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8"/>
          <p:cNvSpPr/>
          <p:nvPr/>
        </p:nvSpPr>
        <p:spPr>
          <a:xfrm>
            <a:off x="1069920" y="268272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00=5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2"/>
          <p:cNvGrpSpPr/>
          <p:nvPr/>
        </p:nvGrpSpPr>
        <p:grpSpPr>
          <a:xfrm>
            <a:off x="3022560" y="1125360"/>
            <a:ext cx="5078520" cy="1800360"/>
            <a:chOff x="3022560" y="1125360"/>
            <a:chExt cx="5078520" cy="1800360"/>
          </a:xfrm>
        </p:grpSpPr>
        <p:sp>
          <p:nvSpPr>
            <p:cNvPr id="104" name="圆角矩形标注 25"/>
            <p:cNvSpPr/>
            <p:nvPr/>
          </p:nvSpPr>
          <p:spPr>
            <a:xfrm>
              <a:off x="3022560" y="1297440"/>
              <a:ext cx="3457080" cy="86400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小数点的变化规律是什么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Picture 35" descr="42"/>
            <p:cNvPicPr/>
            <p:nvPr/>
          </p:nvPicPr>
          <p:blipFill>
            <a:blip r:embed="rId1"/>
            <a:stretch/>
          </p:blipFill>
          <p:spPr>
            <a:xfrm flipH="1">
              <a:off x="6300360" y="1125360"/>
              <a:ext cx="180072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矩形 11"/>
          <p:cNvSpPr/>
          <p:nvPr/>
        </p:nvSpPr>
        <p:spPr>
          <a:xfrm>
            <a:off x="1042920" y="3068640"/>
            <a:ext cx="741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数点向右移动一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数就扩大到原来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数点向右移动两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数就扩大到原来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数点向右移动三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数就扩大到原来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……这是小数点向右移动引起小数大小变化的规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84360" y="170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写字台的长和宽改写成以厘米为单位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1"/>
          <p:cNvGrpSpPr/>
          <p:nvPr/>
        </p:nvGrpSpPr>
        <p:grpSpPr>
          <a:xfrm>
            <a:off x="3276720" y="765000"/>
            <a:ext cx="5110920" cy="1579680"/>
            <a:chOff x="3276720" y="765000"/>
            <a:chExt cx="5110920" cy="1579680"/>
          </a:xfrm>
        </p:grpSpPr>
        <p:pic>
          <p:nvPicPr>
            <p:cNvPr id="112" name="Picture 3" descr="F:\七彩课堂插图板式封面\排版用图标、页眉页脚\标题图（终-排版用）共29个\预习指导.jpg"/>
            <p:cNvPicPr/>
            <p:nvPr/>
          </p:nvPicPr>
          <p:blipFill>
            <a:blip r:embed="rId1"/>
            <a:srcRect l="0" t="0" r="31433" b="0"/>
            <a:stretch/>
          </p:blipFill>
          <p:spPr>
            <a:xfrm flipH="1">
              <a:off x="6660000" y="765000"/>
              <a:ext cx="172764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圆角矩形标注 7"/>
            <p:cNvSpPr/>
            <p:nvPr/>
          </p:nvSpPr>
          <p:spPr>
            <a:xfrm>
              <a:off x="3276720" y="981000"/>
              <a:ext cx="2951640" cy="642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一说你是怎样做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矩形 9"/>
          <p:cNvSpPr/>
          <p:nvPr/>
        </p:nvSpPr>
        <p:spPr>
          <a:xfrm>
            <a:off x="1054080" y="406080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939960" y="458460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3×100=13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JSS3.EPS" descr="id:2147500946;FounderCES"/>
          <p:cNvPicPr/>
          <p:nvPr/>
        </p:nvPicPr>
        <p:blipFill>
          <a:blip r:embed="rId2"/>
          <a:stretch/>
        </p:blipFill>
        <p:spPr>
          <a:xfrm>
            <a:off x="2690640" y="2344680"/>
            <a:ext cx="3337200" cy="1604880"/>
          </a:xfrm>
          <a:prstGeom prst="rect">
            <a:avLst/>
          </a:prstGeom>
          <a:ln w="0">
            <a:noFill/>
          </a:ln>
        </p:spPr>
      </p:pic>
      <p:sp>
        <p:nvSpPr>
          <p:cNvPr id="117" name="矩形 13"/>
          <p:cNvSpPr/>
          <p:nvPr/>
        </p:nvSpPr>
        <p:spPr>
          <a:xfrm>
            <a:off x="2503440" y="5745240"/>
            <a:ext cx="27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6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2"/>
          <p:cNvGrpSpPr/>
          <p:nvPr/>
        </p:nvGrpSpPr>
        <p:grpSpPr>
          <a:xfrm>
            <a:off x="4246560" y="4721400"/>
            <a:ext cx="4897080" cy="1800000"/>
            <a:chOff x="4246560" y="4721400"/>
            <a:chExt cx="4897080" cy="1800000"/>
          </a:xfrm>
        </p:grpSpPr>
        <p:sp>
          <p:nvSpPr>
            <p:cNvPr id="119" name="圆角矩形标注 14"/>
            <p:cNvSpPr/>
            <p:nvPr/>
          </p:nvSpPr>
          <p:spPr>
            <a:xfrm>
              <a:off x="4246560" y="4757400"/>
              <a:ext cx="3456720" cy="86400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把高级单位的数化成低级单位的数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要乘进率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Picture 35" descr="42"/>
            <p:cNvPicPr/>
            <p:nvPr/>
          </p:nvPicPr>
          <p:blipFill>
            <a:blip r:embed="rId3"/>
            <a:stretch/>
          </p:blipFill>
          <p:spPr>
            <a:xfrm flipH="1">
              <a:off x="7343280" y="472140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F:\七彩课堂插图板式封面\排版用图标、页眉页脚\标题jpg\读读比比.jpg"/>
          <p:cNvPicPr/>
          <p:nvPr/>
        </p:nvPicPr>
        <p:blipFill>
          <a:blip r:embed="rId1"/>
          <a:srcRect l="12171" t="13499" r="0" b="0"/>
          <a:stretch/>
        </p:blipFill>
        <p:spPr>
          <a:xfrm>
            <a:off x="6372360" y="838080"/>
            <a:ext cx="2276280" cy="1568520"/>
          </a:xfrm>
          <a:prstGeom prst="rect">
            <a:avLst/>
          </a:prstGeom>
          <a:ln w="0">
            <a:noFill/>
          </a:ln>
        </p:spPr>
      </p:pic>
      <p:sp>
        <p:nvSpPr>
          <p:cNvPr id="124" name="矩形 20"/>
          <p:cNvSpPr/>
          <p:nvPr/>
        </p:nvSpPr>
        <p:spPr>
          <a:xfrm>
            <a:off x="971640" y="2924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可以榨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分别可以榨出多少千克花生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8:42:00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9T11:11:06Z</dcterms:modified>
  <cp:revision>332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